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849B-7CA9-4A05-8218-60BE32762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6F17-5336-4858-884F-4248895A0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D50-F0BD-411D-9AAC-92B02BB3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50C-EA58-4921-AB8D-77BC088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A00-3638-4D17-BD15-D8665EBE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B4F-9494-45D2-9F83-EA6FEA2C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A76-4D6B-44FB-903B-734121D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138-6478-4520-9594-2D88A573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2B1-DCF0-40AA-AB24-D96B212C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346-34FB-4E1E-9A61-814ECC0F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5EE-8FDF-484C-AF41-2B899CE9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AB2-B623-4F7A-ACDC-8376797D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6AD-C7ED-4305-8816-EC56492F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EE3-A16E-4A4F-9E91-CEDA15E4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0323-06DF-4DC6-9AAC-826279F682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mailto:bnnsov@bk.ru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Z:\!-Общая\Мозоленко\Новое на утверждение\Для презентации\1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7086600" y="64692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3AAD-1C5C-4751-BD50-0E23CCA0AD0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158760" y="5356080"/>
            <a:ext cx="816300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353880" indent="-353880"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сурсов ПОО инклюзивного профессионального образования, необходимые для обучения лиц с инвалидностью и ОВ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0"/>
          <p:cNvSpPr/>
          <p:nvPr/>
        </p:nvSpPr>
        <p:spPr>
          <a:xfrm>
            <a:off x="5359320" y="2008080"/>
            <a:ext cx="3586320" cy="26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.01.09  Повар, кондитер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02.06  Сетевое и системное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ир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профессионального обучен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яр строитель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ЭВ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 flipH="1">
            <a:off x="5232240" y="1417680"/>
            <a:ext cx="28800" cy="362736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3"/>
          <p:cNvSpPr/>
          <p:nvPr/>
        </p:nvSpPr>
        <p:spPr>
          <a:xfrm>
            <a:off x="5359320" y="1352520"/>
            <a:ext cx="3403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правления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9"/>
          <p:cNvSpPr/>
          <p:nvPr/>
        </p:nvSpPr>
        <p:spPr>
          <a:xfrm>
            <a:off x="109440" y="1424160"/>
            <a:ext cx="49420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Разработка и апробация адаптивных образовательных програм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9"/>
          <p:cNvSpPr/>
          <p:nvPr/>
        </p:nvSpPr>
        <p:spPr>
          <a:xfrm>
            <a:off x="158760" y="4322880"/>
            <a:ext cx="492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Реализация  образовательных програм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9"/>
          <p:cNvSpPr/>
          <p:nvPr/>
        </p:nvSpPr>
        <p:spPr>
          <a:xfrm>
            <a:off x="136440" y="2490840"/>
            <a:ext cx="4954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Повышение квалификации педагог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68120" y="3321000"/>
            <a:ext cx="492300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Дооснащение образовательной среды </a:t>
            </a:r>
            <a:br>
              <a:rPr sz="1700"/>
            </a:b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для лиц с ОВ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1"/>
          <p:cNvSpPr/>
          <p:nvPr/>
        </p:nvSpPr>
        <p:spPr>
          <a:xfrm flipH="1">
            <a:off x="525240" y="5234040"/>
            <a:ext cx="7994520" cy="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3"/>
          <p:cNvSpPr/>
          <p:nvPr/>
        </p:nvSpPr>
        <p:spPr>
          <a:xfrm>
            <a:off x="5329080" y="4595760"/>
            <a:ext cx="35863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353880" indent="-353880" algn="just">
              <a:lnSpc>
                <a:spcPct val="100000"/>
              </a:lnSpc>
              <a:spcAft>
                <a:spcPts val="751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профессионального мастерства «Абилимпикс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500040" y="549360"/>
            <a:ext cx="443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клюзив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-30240" y="-2700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39640" y="2562120"/>
            <a:ext cx="784872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#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чиекадры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#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лодыепрофессион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#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тскийполитехническийколлед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66680" y="4221000"/>
            <a:ext cx="442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 «Советский политехниче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ежда Николаевна Болды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240, г. Советский, ул. Макаренко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bnnsov@b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ovprocolleg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C:\Users\trodenberger\Desktop\qr код.jpg"/>
          <p:cNvPicPr/>
          <p:nvPr/>
        </p:nvPicPr>
        <p:blipFill>
          <a:blip r:embed="rId3"/>
          <a:stretch/>
        </p:blipFill>
        <p:spPr>
          <a:xfrm>
            <a:off x="7164360" y="690480"/>
            <a:ext cx="15843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C:\Users\trodenberger\Desktop\Новая папка\доклад май 2018_Страница_4.jpg"/>
          <p:cNvPicPr/>
          <p:nvPr/>
        </p:nvPicPr>
        <p:blipFill>
          <a:blip r:embed="rId1"/>
          <a:stretch/>
        </p:blipFill>
        <p:spPr>
          <a:xfrm>
            <a:off x="-11160" y="-9360"/>
            <a:ext cx="91551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9" descr="C:\Users\trodenberger\Desktop\доклад май 2018_Страница_3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72400"/>
          </a:xfrm>
          <a:prstGeom prst="rect">
            <a:avLst/>
          </a:prstGeom>
          <a:ln w="0">
            <a:noFill/>
          </a:ln>
        </p:spPr>
      </p:pic>
      <p:sp>
        <p:nvSpPr>
          <p:cNvPr id="89" name="Номер слайда 3"/>
          <p:cNvSpPr/>
          <p:nvPr/>
        </p:nvSpPr>
        <p:spPr>
          <a:xfrm>
            <a:off x="8724960" y="6491160"/>
            <a:ext cx="419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8" descr="C:\Users\trodenberger\Downloads\Dlya_direktora-01.jpg"/>
          <p:cNvPicPr/>
          <p:nvPr/>
        </p:nvPicPr>
        <p:blipFill>
          <a:blip r:embed="rId2"/>
          <a:stretch/>
        </p:blipFill>
        <p:spPr>
          <a:xfrm>
            <a:off x="5508720" y="1913040"/>
            <a:ext cx="3456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6" descr="C:\Users\trodenberger\Desktop\Новая папка\доклад май 2018_Страница_2.jpg"/>
          <p:cNvPicPr/>
          <p:nvPr/>
        </p:nvPicPr>
        <p:blipFill>
          <a:blip r:embed="rId1"/>
          <a:stretch/>
        </p:blipFill>
        <p:spPr>
          <a:xfrm>
            <a:off x="2052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7086600" y="64692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AFCB-B669-4CD6-9B56-17826DF47E5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5362560" y="3603600"/>
            <a:ext cx="35863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02.11 Техническое обслуживание электрического и электромеханического оборуд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2"/>
          <p:cNvSpPr/>
          <p:nvPr/>
        </p:nvSpPr>
        <p:spPr>
          <a:xfrm flipH="1">
            <a:off x="5232240" y="1484280"/>
            <a:ext cx="28800" cy="362736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5359320" y="1352520"/>
            <a:ext cx="3403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правления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9"/>
          <p:cNvSpPr/>
          <p:nvPr/>
        </p:nvSpPr>
        <p:spPr>
          <a:xfrm>
            <a:off x="179280" y="2028960"/>
            <a:ext cx="4942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Разработка нормативной документ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9"/>
          <p:cNvSpPr/>
          <p:nvPr/>
        </p:nvSpPr>
        <p:spPr>
          <a:xfrm>
            <a:off x="179280" y="3686040"/>
            <a:ext cx="492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Реализация  образовательной программ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9"/>
          <p:cNvSpPr/>
          <p:nvPr/>
        </p:nvSpPr>
        <p:spPr>
          <a:xfrm>
            <a:off x="136440" y="2755800"/>
            <a:ext cx="4954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Стажировка педагогов на предприят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9"/>
          <p:cNvSpPr/>
          <p:nvPr/>
        </p:nvSpPr>
        <p:spPr>
          <a:xfrm>
            <a:off x="179280" y="4387680"/>
            <a:ext cx="492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Организация трудоустройства выпуск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1"/>
          <p:cNvSpPr/>
          <p:nvPr/>
        </p:nvSpPr>
        <p:spPr>
          <a:xfrm flipH="1">
            <a:off x="755280" y="5157720"/>
            <a:ext cx="7994520" cy="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2483280" y="2379600"/>
            <a:ext cx="2623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март 2018 – август  20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2599560" y="3132000"/>
            <a:ext cx="2534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сентябрь – декабрь 20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2463480" y="4035600"/>
            <a:ext cx="2703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сентябрь 2018 –июнь 20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3955320" y="4776840"/>
            <a:ext cx="1236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июнь 202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4840" y="37944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«Разработка и апробация моделей обучения, предусматривающих совмещение теоретической подготовки с практическим обучение на предприяти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9"/>
          <p:cNvSpPr/>
          <p:nvPr/>
        </p:nvSpPr>
        <p:spPr>
          <a:xfrm>
            <a:off x="154080" y="1239840"/>
            <a:ext cx="4954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MS PGothic"/>
              </a:rPr>
              <a:t>Создание дуальной образовательно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6860160" y="4764240"/>
            <a:ext cx="16858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2018 -2020  год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7"/>
          <p:cNvSpPr/>
          <p:nvPr/>
        </p:nvSpPr>
        <p:spPr>
          <a:xfrm>
            <a:off x="5547600" y="1841400"/>
            <a:ext cx="1576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2015 -2016год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8"/>
          <p:cNvSpPr/>
          <p:nvPr/>
        </p:nvSpPr>
        <p:spPr>
          <a:xfrm>
            <a:off x="5445000" y="2217600"/>
            <a:ext cx="35863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01.27 Машинист технологических насосов и компрессор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9"/>
          <p:cNvSpPr/>
          <p:nvPr/>
        </p:nvSpPr>
        <p:spPr>
          <a:xfrm>
            <a:off x="1042920" y="5373720"/>
            <a:ext cx="674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е оборудование возможность участия на 100% в технологическом процессе, трудоустройство на период практики, именные стипендии, возможность дальнейшего трудоустрой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кадрами «под ключ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7086600" y="64692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3327-140A-4549-ADF3-DAFF6F24F89C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5359320" y="2008080"/>
            <a:ext cx="3586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.02.01 Дошкольное образ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2"/>
          <p:cNvSpPr/>
          <p:nvPr/>
        </p:nvSpPr>
        <p:spPr>
          <a:xfrm flipH="1">
            <a:off x="5232240" y="1417680"/>
            <a:ext cx="28800" cy="362736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5359320" y="1352520"/>
            <a:ext cx="3403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правления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9"/>
          <p:cNvSpPr/>
          <p:nvPr/>
        </p:nvSpPr>
        <p:spPr>
          <a:xfrm>
            <a:off x="160200" y="1569960"/>
            <a:ext cx="4942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Разработка нормативной документ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9"/>
          <p:cNvSpPr/>
          <p:nvPr/>
        </p:nvSpPr>
        <p:spPr>
          <a:xfrm>
            <a:off x="179280" y="3497400"/>
            <a:ext cx="492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Реализация  образовательной программ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9"/>
          <p:cNvSpPr/>
          <p:nvPr/>
        </p:nvSpPr>
        <p:spPr>
          <a:xfrm>
            <a:off x="217440" y="2370240"/>
            <a:ext cx="49546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MS PGothic"/>
              </a:rPr>
              <a:t>Повышение квалификации и стажировка педагог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1"/>
          <p:cNvSpPr/>
          <p:nvPr/>
        </p:nvSpPr>
        <p:spPr>
          <a:xfrm flipH="1">
            <a:off x="525240" y="5234040"/>
            <a:ext cx="7994520" cy="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480040" y="2019240"/>
            <a:ext cx="2623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март 2016 – август  201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2464200" y="4035600"/>
            <a:ext cx="2703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сентябрь 2016 –июнь 20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8"/>
          <p:cNvSpPr/>
          <p:nvPr/>
        </p:nvSpPr>
        <p:spPr>
          <a:xfrm>
            <a:off x="547560" y="5516640"/>
            <a:ext cx="67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кадрами «под ключ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490680" y="5950080"/>
            <a:ext cx="65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, переподготовка и повышение квалификации взрослого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«Разработка и апробация моделей обучения, предусматривающих совмещение теоретической подготовки с практическим обучение на предприят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9"/>
          <p:cNvSpPr/>
          <p:nvPr/>
        </p:nvSpPr>
        <p:spPr>
          <a:xfrm>
            <a:off x="154080" y="1239840"/>
            <a:ext cx="4954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MS PGothic"/>
              </a:rPr>
              <a:t>Создание лабораторий на базе предприят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0"/>
          <p:cNvSpPr/>
          <p:nvPr/>
        </p:nvSpPr>
        <p:spPr>
          <a:xfrm>
            <a:off x="5500800" y="4668840"/>
            <a:ext cx="3587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о 3 лаборатории на базе Д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3"/>
          <p:cNvSpPr/>
          <p:nvPr/>
        </p:nvSpPr>
        <p:spPr>
          <a:xfrm>
            <a:off x="279360" y="4518000"/>
            <a:ext cx="3586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удоустройство выпуск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4"/>
          <p:cNvSpPr/>
          <p:nvPr/>
        </p:nvSpPr>
        <p:spPr>
          <a:xfrm>
            <a:off x="3280680" y="4856040"/>
            <a:ext cx="1169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июль 20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5"/>
          <p:cNvSpPr/>
          <p:nvPr/>
        </p:nvSpPr>
        <p:spPr>
          <a:xfrm>
            <a:off x="2463120" y="2997360"/>
            <a:ext cx="2568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a6a6a6"/>
                </a:solidFill>
                <a:latin typeface="Times New Roman"/>
                <a:ea typeface="MS PGothic"/>
              </a:rPr>
              <a:t>март 2016 – август 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оловок 6"/>
          <p:cNvSpPr/>
          <p:nvPr/>
        </p:nvSpPr>
        <p:spPr>
          <a:xfrm>
            <a:off x="179280" y="115920"/>
            <a:ext cx="8229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«Разработка и апробация моделей обучения, предусматривающих совмещение теоретической подготовки с практическим обучение на предприят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68360" y="74520"/>
            <a:ext cx="1758960" cy="978120"/>
          </a:xfrm>
          <a:prstGeom prst="rect">
            <a:avLst/>
          </a:prstGeom>
          <a:ln w="0">
            <a:noFill/>
          </a:ln>
        </p:spPr>
      </p:pic>
      <p:sp>
        <p:nvSpPr>
          <p:cNvPr id="132" name="Заголовок 1"/>
          <p:cNvSpPr/>
          <p:nvPr/>
        </p:nvSpPr>
        <p:spPr>
          <a:xfrm>
            <a:off x="179280" y="1413000"/>
            <a:ext cx="383400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ПИОНАТНОЕ ДВИЖЕНИЕ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50840" y="3262320"/>
            <a:ext cx="388944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ЦИОННЫЙ ЭКЗА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4211640" y="1177920"/>
            <a:ext cx="484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спертов с правом проведения рег. чемпио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ксперт демонстрационного экзам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ртифицированный экспе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108000" y="1971720"/>
            <a:ext cx="862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ДЭ по профессиям и специальност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профессиональных олимпиад и конкурсов, в том числе по стандартам WSR (отборочные чемпионаты на базе СЦК), включая подготовку участников, экспер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ия МТБ в соответствии с современными требованиями (в том числе, с учетом стандартов WS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кспертного сообщества в соответствии со стандартами WS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7" descr="C:\Users\trodenberger\Desktop\веб.jpg"/>
          <p:cNvPicPr/>
          <p:nvPr/>
        </p:nvPicPr>
        <p:blipFill>
          <a:blip r:embed="rId2"/>
          <a:stretch/>
        </p:blipFill>
        <p:spPr>
          <a:xfrm>
            <a:off x="2178000" y="3865680"/>
            <a:ext cx="3906720" cy="276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9" descr="C:\Users\trodenberger\Desktop\ГРАФ.jpg"/>
          <p:cNvPicPr/>
          <p:nvPr/>
        </p:nvPicPr>
        <p:blipFill>
          <a:blip r:embed="rId3"/>
          <a:stretch/>
        </p:blipFill>
        <p:spPr>
          <a:xfrm>
            <a:off x="5148360" y="3857760"/>
            <a:ext cx="3960720" cy="27622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1"/>
          <p:cNvSpPr/>
          <p:nvPr/>
        </p:nvSpPr>
        <p:spPr>
          <a:xfrm>
            <a:off x="4192560" y="3147840"/>
            <a:ext cx="4751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3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частника демонстрационного экзаме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нтра проведения демонстрационного экзаме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Z:\!-Общая\Болдырева\от Мозоленко\Доклад. Ноябрь 2017\77-172807.jpg"/>
          <p:cNvPicPr/>
          <p:nvPr/>
        </p:nvPicPr>
        <p:blipFill>
          <a:blip r:embed="rId4"/>
          <a:stretch/>
        </p:blipFill>
        <p:spPr>
          <a:xfrm>
            <a:off x="87480" y="3789360"/>
            <a:ext cx="20080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3"/>
          <p:cNvSpPr/>
          <p:nvPr/>
        </p:nvSpPr>
        <p:spPr>
          <a:xfrm>
            <a:off x="7086600" y="64692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803E-2D5D-41A8-BE52-46AB4C7058FF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2"/>
          <p:cNvSpPr/>
          <p:nvPr/>
        </p:nvSpPr>
        <p:spPr>
          <a:xfrm>
            <a:off x="5232240" y="1700280"/>
            <a:ext cx="0" cy="288108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1"/>
          <p:cNvSpPr/>
          <p:nvPr/>
        </p:nvSpPr>
        <p:spPr>
          <a:xfrm flipH="1">
            <a:off x="525240" y="4724280"/>
            <a:ext cx="7994520" cy="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525600" y="6308640"/>
            <a:ext cx="68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, переподготовка и повышение квалификации взрослого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04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обучение  и дополнительное профессиональное образование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9"/>
          <p:cNvSpPr/>
          <p:nvPr/>
        </p:nvSpPr>
        <p:spPr>
          <a:xfrm>
            <a:off x="368280" y="1808280"/>
            <a:ext cx="4678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 профессиональн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3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 дополнительного   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554040" y="4781520"/>
            <a:ext cx="813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0c22"/>
                </a:solidFill>
                <a:latin typeface="Times New Roman"/>
                <a:ea typeface="Calibri"/>
              </a:rPr>
              <a:t>п</a:t>
            </a:r>
            <a:r>
              <a:rPr b="1" lang="ru-RU" sz="1400" spc="-1" strike="noStrike">
                <a:solidFill>
                  <a:srgbClr val="020c22"/>
                </a:solidFill>
                <a:latin typeface="Times New Roman"/>
                <a:ea typeface="Calibri"/>
              </a:rPr>
              <a:t>. 2б Перечня поручений Президента по итогам заседания Государственного совета по вопросам совершенствования системы общего образования, состоявшегося 23 декабря 2015 года, от 02.01.2016 № Пр-15Г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20c22"/>
                </a:solidFill>
                <a:latin typeface="Times New Roman"/>
                <a:ea typeface="Calibri"/>
              </a:rPr>
              <a:t>        </a:t>
            </a:r>
            <a:r>
              <a:rPr b="0" i="1" lang="ru-RU" sz="1400" spc="-1" strike="noStrike">
                <a:solidFill>
                  <a:srgbClr val="020c22"/>
                </a:solidFill>
                <a:latin typeface="Times New Roman"/>
                <a:ea typeface="Calibri"/>
              </a:rPr>
              <a:t>б) разработать и реализовать комплекс мер, предусматривающи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20c22"/>
                </a:solidFill>
                <a:latin typeface="Times New Roman"/>
                <a:ea typeface="Calibri"/>
              </a:rPr>
              <a:t>предоставление учащимся возможности одновременно с получением среднего общего образования пройти профессиональную подготовку по выбранным ими профессиям, в том числе с использованием инфраструктуры профессиональных образовательных орган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22"/>
          <p:cNvSpPr/>
          <p:nvPr/>
        </p:nvSpPr>
        <p:spPr>
          <a:xfrm>
            <a:off x="5435640" y="39337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9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6"/>
          <p:cNvSpPr/>
          <p:nvPr/>
        </p:nvSpPr>
        <p:spPr>
          <a:xfrm>
            <a:off x="395280" y="3152880"/>
            <a:ext cx="3990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профессионального обучения для школьников по отрасля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анспо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питания и серв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7"/>
          <p:cNvSpPr/>
          <p:nvPr/>
        </p:nvSpPr>
        <p:spPr>
          <a:xfrm>
            <a:off x="5435640" y="1773360"/>
            <a:ext cx="2689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6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 ДПО с применением электронного обу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Users\trodenberger\Desktop\1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32000" y="-360"/>
            <a:ext cx="6012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РАСТРУКТУ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7:43:43Z</dcterms:created>
  <dc:creator>gmishina</dc:creator>
  <dc:description/>
  <dc:language>en-US</dc:language>
  <cp:lastModifiedBy>Директор</cp:lastModifiedBy>
  <cp:lastPrinted>2018-05-27T11:44:55Z</cp:lastPrinted>
  <dcterms:modified xsi:type="dcterms:W3CDTF">2018-05-28T19:30:10Z</dcterms:modified>
  <cp:revision>234</cp:revision>
  <dc:subject/>
  <dc:title>Научно-практическая конференция</dc:title>
</cp:coreProperties>
</file>